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BADC-FF39-44DA-BE7C-9FF1CDBD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CF17-8992-44EB-AC31-26F6F5D82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39A-1D67-4BC7-A549-B8475A4B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9AD-70D6-4423-B8E3-417AC600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C83-DADC-47E5-ABF1-D3FA0054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A8D-F210-4E34-91FD-5AA856B9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292-F224-4C73-B6AE-559C6BAE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555-2DFB-43A1-80D6-5CBFEF3F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1CC-5ECD-4AE6-B151-D6DCB487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D91-93A0-4AB0-82F5-B563818B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0E9-3F89-48C2-8DB7-2B0E64A6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46F-2596-4DD3-8FB7-5C9E5A8C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F5B-1509-4F7E-A3A6-D72E5BA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45C-39D7-4570-BA13-0157BDF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44AC-50CC-49B6-9EE0-796D18E23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80880" y="2438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(2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80880" y="26668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28954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581280"/>
            <a:ext cx="17524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645080"/>
            <a:ext cx="568440" cy="822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6450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242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1981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9:12Z</dcterms:modified>
  <cp:revision>104</cp:revision>
  <dc:subject/>
  <dc:title>Profile</dc:title>
</cp:coreProperties>
</file>